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2981-F7FE-40ED-B786-6AD0493F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FA59-90DE-45DC-BB40-40A1ACB5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FB7E-84D0-4D2D-9947-756FE167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A143-3BAD-451B-9B6F-3C840D37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1E10-D5AF-40AA-A34B-3217500B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0B16-1940-4995-8D79-2BACBD4D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7B65-FEEF-4BCE-8600-6590B8F6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0440-0CC2-4074-B05A-6021D6F7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5581-C294-4020-9984-707024C2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D54B-6288-4CF7-BBE6-FDE49477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53C5-C063-44B9-97E1-BC99310F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C70B-2C5C-430F-B0E0-379E42EC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2A09-3E83-48AA-B60B-31DF8C59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6A21-5C4D-422C-B729-2AAFCC79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EEFC-EEB2-4BDA-9B55-8E03CCAE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D402-0868-4EA0-B088-84860ECE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A873-94CC-4E9A-A87A-7B68995F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0E9E8A-8846-4CE2-902D-C2EA3F51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21181E-DED5-483E-BE92-6A312F01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958926-613F-442A-83BC-BB797D33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5B5181-2E4F-4B35-A0BF-700DF197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67E013-00E9-43D5-9F21-6AAB387C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0FC1-0E41-4123-85CD-5793B0AA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B8BB8E-3F45-4260-996A-F44F16C7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A1E10A-319D-411F-B319-E0BA0DE2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9723A4-F8B4-4BA8-9BB2-EEEF2BD7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233D6C-2C26-4230-BBFA-0A72C132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987F16-0F2E-4B89-8CFB-2E31FA55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7DE3F2-39A6-4D56-98D4-D50E3384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97F675-0D46-4ED1-BE51-1BAF6BEC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25E0-43A4-4EFF-BF1B-7F21FD7E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C7BC-A7C5-4F1F-AC31-A70A8B1E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FDB4-548B-4B85-B61F-66DF35C8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438E-E439-4D44-82FC-C57A5066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DB3F-C2FC-4B55-B3E2-2761698D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7C7A-EB2B-4759-A774-0CD86732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A3F9-01EF-4D0E-830A-3B66BF97504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2B6D-B63B-467F-9758-952950115A0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7131-549A-41BC-BEF4-D7AA62D6655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одзаголовок 2"/>
          <p:cNvSpPr/>
          <p:nvPr/>
        </p:nvSpPr>
        <p:spPr>
          <a:xfrm>
            <a:off x="468360" y="1773360"/>
            <a:ext cx="82072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nstantia"/>
              </a:rPr>
              <a:t>Первая медицинская помощь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nstantia"/>
              </a:rPr>
              <a:t>при ранениях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16000" y="2852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6335640" cy="4751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1280" y="1890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становка кровотечения методом максимального сгибания конеч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04000" y="1413000"/>
            <a:ext cx="2195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сгибательную поверхность локтевого или коленного сустава помещают небольшого размера валик из плотно скатанной ткани и затем максимально сгибают руку (ногу) в локтевом (коленном) суставе соответств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95280" y="260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становка кровотечения из подключной артерии путём максимального отвода рук наз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916280"/>
            <a:ext cx="280836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ксимально отвести назад левое и правое плеч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Отведенные плечи зафиксировать за спиной, используя широкий бинт или подходящую матер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708360" y="1700280"/>
            <a:ext cx="492444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16000" y="2852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rcRect l="4730" t="27722" r="5499" b="31946"/>
          <a:stretch/>
        </p:blipFill>
        <p:spPr>
          <a:xfrm>
            <a:off x="1116000" y="1484280"/>
            <a:ext cx="6840720" cy="2305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619280" y="26028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авила оказания первой помощи при ранении коне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3870360"/>
            <a:ext cx="669600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Приподнять конечность и прижать артер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Наложить кровоостанавливающий жгут или тугую давящую повяз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Накрыть рану салфеткой и закрепить её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5445000"/>
            <a:ext cx="8569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Жгут на конечность можно наложить не более, чем на 1 ча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лучае посинения и отёка конечности (при неправильном наложении жгута) следует немедленно заново наложить жг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16000" y="2852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26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становка венозного и капиллярного кровоте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4437000"/>
            <a:ext cx="842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пиллярное и венозное кровотечение останавливают наложением стерильной давящей повязки. При венозном кровотечении поврежденную конечность следует приподня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 остановленном кровотечении давящую повязку можно не снимать до поступления больного в лечебное учреж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32000" y="1052640"/>
            <a:ext cx="554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ac9"/>
                </a:solidFill>
                <a:latin typeface="Arial"/>
              </a:rPr>
              <a:t>При венозном кровотечении темная кровь вытекает медленно, равномерно, непрямой стру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2409840" cy="1927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3213000"/>
            <a:ext cx="54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ac9"/>
                </a:solidFill>
                <a:latin typeface="Arial"/>
              </a:rPr>
              <a:t>При капиллярном кровотечении кровь сочится каплями со всей раненой поверх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300720" y="2205000"/>
            <a:ext cx="24480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16000" y="2852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rcRect l="0" t="4639" r="0" b="7167"/>
          <a:stretch/>
        </p:blipFill>
        <p:spPr>
          <a:xfrm>
            <a:off x="755640" y="1413000"/>
            <a:ext cx="7620120" cy="5040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95280" y="260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Наложение повязок на разные части тела при венозном и капиллярном кровотеч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08360" y="1484280"/>
            <a:ext cx="251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ществует огромное множество видов повязок. Каждая из них имеет своё предназначение и особенности налож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5280" y="3357720"/>
            <a:ext cx="1726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тод наложения повязки на предплечь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40360" y="4869000"/>
            <a:ext cx="201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тод наложения повязки на область затыл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84720" y="4653000"/>
            <a:ext cx="20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тод наложения повязки на нижнюю часть живота и паховую обла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rcRect l="25502" t="18917" r="31025" b="5499"/>
          <a:stretch/>
        </p:blipFill>
        <p:spPr>
          <a:xfrm>
            <a:off x="1258920" y="1773360"/>
            <a:ext cx="3313080" cy="4319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403280" y="476280"/>
            <a:ext cx="61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авила оказания первой помощи при ранении гру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1844640"/>
            <a:ext cx="309564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жать ладонь к ране, чтобы воздух не поступал через неё в грудную пол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ложить на рану герметичную повязку или лейкопластыр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Способы обездвиживания (иммобилизации)</a:t>
            </a:r>
            <a:endParaRPr b="0" lang="en-US" sz="3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1471680"/>
            <a:ext cx="820728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авная цель</a:t>
            </a: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 иммобилиза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обеспечить по возможности полный покой поврежденной части тела, что исключает дополнительную травматизацию и уменьшает бо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а иммобилизации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ует обездвижить два сустава (выше и ниже места перелом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оначально положить слой ваты или мягкой ткани на определяющиеся под кожей костные выступ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кладывать шины надо осторож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ины должны быть прочными и как можно более легки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9640" y="765000"/>
            <a:ext cx="8280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2e104"/>
                </a:solidFill>
                <a:latin typeface="Times New Roman"/>
              </a:rPr>
              <a:t>Рана</a:t>
            </a:r>
            <a:r>
              <a:rPr b="1" i="1" lang="en-US" sz="4000" spc="-1" strike="noStrike">
                <a:solidFill>
                  <a:srgbClr val="fefac9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- нарушение целостности кожи и слизистых оболочек.</a:t>
            </a:r>
            <a:r>
              <a:rPr b="1" i="1" lang="en-US" sz="4000" spc="-1" strike="noStrike">
                <a:solidFill>
                  <a:srgbClr val="fefac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efac9"/>
                </a:solidFill>
                <a:latin typeface="Times New Roman"/>
              </a:rPr>
              <a:t>При ранении (процессе нанесении раны) могут быть также повреждены мышцы, сосуды, нервные волокна, внутренние орган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5640" y="260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ичины ран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24000" y="1197000"/>
            <a:ext cx="8424720" cy="5083200"/>
            <a:chOff x="324000" y="1197000"/>
            <a:chExt cx="8424720" cy="508320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324000" y="1197000"/>
              <a:ext cx="8424720" cy="507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7812000" y="5662800"/>
              <a:ext cx="720720" cy="61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одзаголовок 2"/>
          <p:cNvSpPr/>
          <p:nvPr/>
        </p:nvSpPr>
        <p:spPr>
          <a:xfrm>
            <a:off x="539640" y="476280"/>
            <a:ext cx="83534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4046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Раны бывают резанные, ушибленные, рубленные, колотые, укушенны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900000" y="1700280"/>
            <a:ext cx="7508880" cy="4806720"/>
            <a:chOff x="900000" y="1700280"/>
            <a:chExt cx="7508880" cy="480672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900000" y="1700280"/>
              <a:ext cx="7508880" cy="48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7524720" y="5900760"/>
              <a:ext cx="720720" cy="60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Меры асептики и антисептики</a:t>
            </a:r>
            <a:endParaRPr b="0" lang="en-US" sz="3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197000"/>
            <a:ext cx="820728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e104"/>
                </a:solidFill>
                <a:latin typeface="Arial"/>
              </a:rPr>
              <a:t>Асепти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это метод, обеспечивающий предупреждение попадания микробов в рану при ее обработке. Включает в себя стерилизацию инструментов и обработку рук оказывающего медицинскую помощ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e104"/>
                </a:solidFill>
                <a:latin typeface="Arial"/>
              </a:rPr>
              <a:t>Основной закон асепти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1201"/>
                </a:solidFill>
                <a:latin typeface="Arial"/>
              </a:rPr>
              <a:t>всё, что приходит в соприкосновение с раной, должно быть стерильн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e104"/>
                </a:solidFill>
                <a:latin typeface="Arial"/>
              </a:rPr>
              <a:t>Антисепти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комплекс мероприятий, направленных на уничтожение микробов на коже, в ране или в организме (в цело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одзаголовок 2"/>
          <p:cNvSpPr/>
          <p:nvPr/>
        </p:nvSpPr>
        <p:spPr>
          <a:xfrm>
            <a:off x="539640" y="476280"/>
            <a:ext cx="83534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26920" y="2276640"/>
            <a:ext cx="7417080" cy="3647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55640" y="2602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2e104"/>
                </a:solidFill>
                <a:latin typeface="Times New Roman"/>
              </a:rPr>
              <a:t>Признаки ранения: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 боль, обычно кровотечение, нарушение целостности ткан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16000" y="2852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rcRect l="0" t="7584" r="0" b="8000"/>
          <a:stretch/>
        </p:blipFill>
        <p:spPr>
          <a:xfrm>
            <a:off x="755640" y="907920"/>
            <a:ext cx="7620120" cy="4824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4360" y="189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иды кровотеч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51577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351b"/>
                </a:solidFill>
                <a:latin typeface="Arial"/>
              </a:rPr>
              <a:t>Артериальное кровоте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0360" y="4581360"/>
            <a:ext cx="13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351b"/>
                </a:solidFill>
                <a:latin typeface="Arial"/>
              </a:rPr>
              <a:t>Венозное кровотеч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0360" y="242100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351b"/>
                </a:solidFill>
                <a:latin typeface="Arial"/>
              </a:rPr>
              <a:t>Внутреннее кровотеч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4581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351b"/>
                </a:solidFill>
                <a:latin typeface="Arial"/>
              </a:rPr>
              <a:t>Капиллярное кровотеч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19640" y="2349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351b"/>
                </a:solidFill>
                <a:latin typeface="Arial"/>
              </a:rPr>
              <a:t>Наружное кровотеч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580536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 характеру кровотечение может быть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ртериальное; венозное; капиллярно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16000" y="2852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826920" y="907920"/>
            <a:ext cx="7632720" cy="5362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39640" y="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становка артериального кровотечения подручными средств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299736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Прижать пальцем артерию выше кровотеч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2852640"/>
            <a:ext cx="230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На расстоянии 3-5 см выше раны вокруг конечности наложить любую чистую и мягкую матер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5950080"/>
            <a:ext cx="295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Доставить пострадавшего с наложенным жгутом в медучрежд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12000" y="4437000"/>
            <a:ext cx="2305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Растянуть жгут двумя руками в средней части, плотно приложить жгут к конечности, сделать необходимое число оборотов вокруг конеч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96000" y="5661000"/>
            <a:ext cx="230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Прикрепить к жгуту записку с указанием точного времени его налож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rcRect l="28354" t="0" r="28187" b="0"/>
          <a:stretch/>
        </p:blipFill>
        <p:spPr>
          <a:xfrm>
            <a:off x="5003640" y="260280"/>
            <a:ext cx="3587760" cy="6191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00000" y="189000"/>
            <a:ext cx="36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Точки остановки артериального кровотечения пальц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2421000"/>
            <a:ext cx="4028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особ применяется в случае, если не удалось остановить кровотечение путём прямого давления или подъёма конечности, при этом пальцами или кулаком надавливается в точках зажатия артер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2:13:54Z</dcterms:created>
  <dc:creator>Admin</dc:creator>
  <dc:description/>
  <dc:language>en-US</dc:language>
  <cp:lastModifiedBy>Аня</cp:lastModifiedBy>
  <dcterms:modified xsi:type="dcterms:W3CDTF">2008-12-18T17:14:17Z</dcterms:modified>
  <cp:revision>31</cp:revision>
  <dc:subject/>
  <dc:title>Лесков</dc:title>
</cp:coreProperties>
</file>