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54C7F-43AF-429D-B178-3C8D38B7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036E8-AA0A-46D1-8C86-294272FE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FF87A-7649-4B6B-AD87-6A478FCA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50B0C-7655-48DC-9F34-3CB1087C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E403-9421-4ACB-A565-3F57341D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1BDA-5AD4-403A-8178-CC1D4824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E24A-26E7-49E1-8DC5-D0698B79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EBA7-A00A-433E-9550-30F197D1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6AAB-7892-453B-A9B1-635F97B6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7F18-3410-44A2-B872-A460AA80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6433-50ED-4C23-8D63-D6710E18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E19A9-2A7E-4C23-9DBE-B57401AB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7C2E-8B61-4071-B620-0748843B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9636-EED2-4543-A3CA-FB817D0C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FCCD-EBA4-4319-A24E-283ABD64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44DC-255F-4C82-842F-8BF4BD44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5185-722F-4BB0-AC6D-1A6BAAA0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3D7B9-C180-4CE1-B3DC-DAF7C0D0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91A76-4F74-47EB-BAA4-745C2117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DE745-5590-4B30-B917-A2AFD5C7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72B0E-4FA7-4794-8224-87EDD940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9A2C5-913F-4792-8EB6-7F1BE610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D86A0-0BD2-4EAC-B57B-40A09912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BD3E2-B325-4D9D-8F1F-70AED19B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4F0A-E320-42CB-98E6-1D6F6A4670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8677-ABDF-4F4B-829C-0F7C926BF2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e5e5ff"/>
                </a:solidFill>
                <a:latin typeface="Copperplate Gothic Bold"/>
              </a:rPr>
              <a:t>СПИД</a:t>
            </a:r>
            <a:endParaRPr b="1" lang="en-US" sz="9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5113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5e5ff"/>
                </a:solidFill>
                <a:latin typeface="Garamond"/>
              </a:rPr>
              <a:t>Лечение 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48261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137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056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Скажите СПИДу НЕТ!!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Благодарю за внимание!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777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6553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5e5ff"/>
                </a:solidFill>
                <a:latin typeface="Garamond"/>
              </a:rPr>
              <a:t>Симптомы болезни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632720" cy="55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19280" y="765000"/>
            <a:ext cx="5616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79640" y="692280"/>
            <a:ext cx="5256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7056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5:39:12Z</dcterms:created>
  <dc:creator>Маша</dc:creator>
  <dc:description/>
  <dc:language>en-US</dc:language>
  <cp:lastModifiedBy>Маша</cp:lastModifiedBy>
  <dcterms:modified xsi:type="dcterms:W3CDTF">2008-12-18T16:10:15Z</dcterms:modified>
  <cp:revision>2</cp:revision>
  <dc:subject/>
  <dc:title>СПИД</dc:title>
</cp:coreProperties>
</file>