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B3AE-5463-4EDF-BDBA-FB26486A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57C1-6728-45F9-A7F7-DE17B13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F69B-79F3-412B-BC91-4819BC00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FF36-A3DF-4E04-9F0D-AC3A4A4A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A0EB-2A59-45E0-A602-BA33220F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1AB-039F-4E07-86FC-1542E1D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0EC-4BE8-44E3-A79D-B8EA19F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3DF-4789-48C6-82FE-0950E70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6C69-736A-4896-A68C-BB251A9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6EC-962A-43D2-BD80-51F4B777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00DE-1C55-4CBF-B4C8-E2174D49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56A9-1407-4981-AFDE-997573E1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2CD9-A61E-4F74-AD3A-AC39E8E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2F07-7827-4F8F-807C-6E5C2AF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086C-CFA4-46B2-91AE-71876E7F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4B3E-F5A8-4F4A-8CAC-930A4BAA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A87D-3ADF-4FC1-8331-B0772745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AA01-1080-48CD-BF1E-8A90508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BA3A-7576-407B-A20D-16BB5A4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E3F5-2A25-40E3-BDF5-DF9F84B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A584-245F-4E14-98FD-04D954C0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E980-98CA-450F-BC51-BB1105E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90A4-D851-42BB-8858-B6C2A06B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7CDE-299E-4BB3-9BFF-6ACD3CDA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78C-42AD-4CCA-AFD3-6A83CA601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DE69-7356-4EF3-8AD1-30FE76188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9280" y="333000"/>
            <a:ext cx="622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e8ba"/>
                </a:solidFill>
                <a:latin typeface="Garamond"/>
              </a:rPr>
              <a:t>Казанский  Государственный Энергетический Университет</a:t>
            </a:r>
            <a:endParaRPr b="1" lang="en-US" sz="2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781360"/>
            <a:ext cx="73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облема алкоголизма в современном мир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373720"/>
            <a:ext cx="309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фарова Л. 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ибулина Р. Ж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623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81560" y="329580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3449520"/>
            <a:ext cx="5113440" cy="340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550872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4680" y="200160"/>
            <a:ext cx="9153360" cy="64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4325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3522600"/>
            <a:ext cx="3419640" cy="33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638280"/>
            <a:ext cx="8064360" cy="54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4575240" cy="47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14840" y="2205000"/>
            <a:ext cx="452916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1160" y="0"/>
            <a:ext cx="3282840" cy="494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36360"/>
            <a:ext cx="3924360" cy="294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843280" y="2492280"/>
            <a:ext cx="308448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7280" y="764640"/>
            <a:ext cx="46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ff"/>
                </a:solidFill>
                <a:latin typeface="Garamond"/>
              </a:rPr>
              <a:t>Мир открыт для новых идей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2813040"/>
            <a:ext cx="6156360" cy="404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363852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1" lang="en-US" sz="66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62680" y="981000"/>
            <a:ext cx="40813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42840"/>
            <a:ext cx="7812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-31680"/>
            <a:ext cx="756108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94036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321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00720" y="3381480"/>
            <a:ext cx="464328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38436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e8ba"/>
                </a:solidFill>
                <a:latin typeface="Garamond"/>
              </a:rPr>
              <a:t>широкая реклама делает свое дело</a:t>
            </a:r>
            <a:r>
              <a:rPr b="1" lang="en-US" sz="40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74960" y="3263760"/>
            <a:ext cx="53690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3394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Не разбей свою жизнь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397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3451320" cy="44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6:01:02Z</dcterms:created>
  <dc:creator>student</dc:creator>
  <dc:description/>
  <dc:language>en-US</dc:language>
  <cp:lastModifiedBy>student</cp:lastModifiedBy>
  <dcterms:modified xsi:type="dcterms:W3CDTF">2011-04-27T09:36:21Z</dcterms:modified>
  <cp:revision>5</cp:revision>
  <dc:subject/>
  <dc:title>Казанский  Государственный Энергетический Университет</dc:title>
</cp:coreProperties>
</file>